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drumroll.wav" ContentType="audio/x-wav"/>
  <Override PartName="/ppt/media/chimes.wav" ContentType="audio/x-wav"/>
  <Override PartName="/ppt/media/image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7DD-7A0D-48F8-8ABC-B3AE5711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6070-2B88-46AD-858E-DEC0E6D60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4E4A-A3E7-45D8-8FEF-BB16FF874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D9A0-B7BF-4294-8162-3357A0EB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2C3-3BDF-4E45-BB47-DC7F5095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240F-9A5C-4B0F-A1FD-D2D29261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43C-BD69-46F6-97AF-77A3EC56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3B0-B8FD-4459-B0F0-20E89302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61ED-3446-4C8E-97A2-059DEEDD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747-F759-4AD1-90E2-D89384F7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FDC-6F00-4DA0-9C3C-48552046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19F-7EBA-45D0-9B4F-B4816589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76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F710-3489-461F-B24F-1A9B2149C3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стание декабрист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42920" y="83664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66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1700280"/>
            <a:ext cx="43210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71640" y="1700280"/>
            <a:ext cx="36716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Picture 8" descr="image001"/>
          <p:cNvPicPr/>
          <p:nvPr/>
        </p:nvPicPr>
        <p:blipFill>
          <a:blip r:embed="rId1"/>
          <a:stretch/>
        </p:blipFill>
        <p:spPr>
          <a:xfrm>
            <a:off x="468360" y="1628640"/>
            <a:ext cx="7991280" cy="4834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Text Box 9"/>
          <p:cNvSpPr/>
          <p:nvPr/>
        </p:nvSpPr>
        <p:spPr>
          <a:xfrm>
            <a:off x="4788000" y="371628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ryleev_kondfed"/>
          <p:cNvPicPr/>
          <p:nvPr/>
        </p:nvPicPr>
        <p:blipFill>
          <a:blip r:embed="rId1"/>
          <a:stretch/>
        </p:blipFill>
        <p:spPr>
          <a:xfrm>
            <a:off x="3348000" y="1773360"/>
            <a:ext cx="2381400" cy="327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79" name="Text Box 8"/>
          <p:cNvSpPr/>
          <p:nvPr/>
        </p:nvSpPr>
        <p:spPr>
          <a:xfrm>
            <a:off x="3348000" y="5157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.Ф.Рылее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PC110144_0"/>
          <p:cNvPicPr/>
          <p:nvPr/>
        </p:nvPicPr>
        <p:blipFill>
          <a:blip r:embed="rId1"/>
          <a:srcRect l="5111" t="0" r="5188" b="0"/>
          <a:stretch/>
        </p:blipFill>
        <p:spPr>
          <a:xfrm>
            <a:off x="250920" y="189000"/>
            <a:ext cx="3036960" cy="30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81" name="Text Box 5"/>
          <p:cNvSpPr/>
          <p:nvPr/>
        </p:nvSpPr>
        <p:spPr>
          <a:xfrm>
            <a:off x="4767120" y="203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419640" y="0"/>
            <a:ext cx="599112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Иван  Иванович Пущ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(Жанно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член тай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революционног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бществ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посетил  Пушки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о время ссыл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ahoma"/>
              </a:rPr>
              <a:t>в Михайловском («Пущину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79280" y="4724280"/>
            <a:ext cx="873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Осужден  на каторгу в Сибирь посл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Tahoma"/>
              </a:rPr>
              <a:t>восстания декабристов («Мой первый друг…»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2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600000" y="404280"/>
            <a:ext cx="55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Вильгельм Кюхельбекер (Кюхл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C110154_0"/>
          <p:cNvPicPr/>
          <p:nvPr/>
        </p:nvPicPr>
        <p:blipFill>
          <a:blip r:embed="rId1"/>
          <a:stretch/>
        </p:blipFill>
        <p:spPr>
          <a:xfrm>
            <a:off x="250920" y="189000"/>
            <a:ext cx="3097080" cy="2690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ицейский чудак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 парод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лен тайного общества, друг Грибоедова и Ры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астник восстания декабри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 лет в одиночной камере, затем каторга, умер в Сибир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3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0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3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3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3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mage001"/>
          <p:cNvPicPr/>
          <p:nvPr/>
        </p:nvPicPr>
        <p:blipFill>
          <a:blip r:embed="rId1"/>
          <a:stretch/>
        </p:blipFill>
        <p:spPr>
          <a:xfrm>
            <a:off x="684360" y="981000"/>
            <a:ext cx="7850160" cy="511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спасения» (1816 -1817 г.г.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Организаторы и участники:</a:t>
            </a:r>
            <a:r>
              <a:rPr b="0" lang="ru-RU" sz="2000" spc="-1" strike="noStrike">
                <a:solidFill>
                  <a:srgbClr val="ffcc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Н. и Н.М. Муравьевы, С.П.Трубецкой, С.И и М.И Муравьевы – Апостолы, П.И Пестель, И.И. Пущин, М.С. Лун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 около 3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cc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нить крепостное  право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ить конституционную монарх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ить революционный переворот в момент перехода к новому царство- в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66"/>
                </a:solidFill>
                <a:latin typeface="Arial"/>
              </a:rPr>
              <a:t>Первый план цареуби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93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Союз благоденствия» (1818 -182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99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ргнуть самодержавие, отменить крепостное пра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предать смерти царскую династ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030560" cy="44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читывалось около </a:t>
            </a:r>
            <a:r>
              <a:rPr b="1" lang="ru-RU" sz="2800" spc="-1" strike="noStrike">
                <a:solidFill>
                  <a:srgbClr val="66ff99"/>
                </a:solidFill>
                <a:latin typeface="Arial"/>
              </a:rPr>
              <a:t>200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лов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ым деятельным участником был П.И. Пес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Arial"/>
              </a:rPr>
              <a:t>Северное общество (1821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Организаторы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М.Муравьев, М.С.Лун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И. Турген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П.Трубецк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.Ф.Ры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Цели: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в России конституционной монархии, равенство всех граждан перед законом, отмена крепостного пра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Вооруженное выступление при смене императоров на прест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08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66"/>
                </a:solidFill>
                <a:latin typeface="Arial"/>
              </a:rPr>
              <a:t>Южное общество (1821 г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Главные деятели: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.И. Пес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И. Муравьев-Апо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мена крепостного пра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енство все перед за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</a:rPr>
              <a:t>осуществить революционный переворот в момент перехода к новому царство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56" dur="2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Запишите и запомн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Arial"/>
              </a:rPr>
              <a:t>14 декабря 1825 года</a:t>
            </a:r>
            <a:r>
              <a:rPr b="0" lang="ru-RU" sz="3200" spc="-1" strike="noStrike">
                <a:solidFill>
                  <a:srgbClr val="ccccff"/>
                </a:solidFill>
                <a:latin typeface="Arial"/>
              </a:rPr>
              <a:t> в Петербурге было подавлено восстание революционеров-дворян, выступивших против самодержавия и крепостничества. В историю они вошли под именем декабрис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Итоги восс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лечены к следств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веш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ланы на каторгу и на поселение в Сибир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лдат прогнали шпицрутенами через тысячный ст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79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5 челове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121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4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4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304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ffff"/>
                </a:solidFill>
                <a:latin typeface="Arial"/>
              </a:rPr>
              <a:t>Повешенные декабрис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inf_2188_xex"/>
          <p:cNvPicPr/>
          <p:nvPr/>
        </p:nvPicPr>
        <p:blipFill>
          <a:blip r:embed="rId1"/>
          <a:stretch/>
        </p:blipFill>
        <p:spPr>
          <a:xfrm>
            <a:off x="1042920" y="1197000"/>
            <a:ext cx="2857680" cy="3600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7" name="Text Box 8"/>
          <p:cNvSpPr/>
          <p:nvPr/>
        </p:nvSpPr>
        <p:spPr>
          <a:xfrm>
            <a:off x="1116000" y="5013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П.И.Пестел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Picture 9" descr="m_26259"/>
          <p:cNvPicPr/>
          <p:nvPr/>
        </p:nvPicPr>
        <p:blipFill>
          <a:blip r:embed="rId2"/>
          <a:stretch/>
        </p:blipFill>
        <p:spPr>
          <a:xfrm>
            <a:off x="5148360" y="1844640"/>
            <a:ext cx="2824200" cy="38163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5148360" y="5661000"/>
            <a:ext cx="2663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5148360" y="573408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99"/>
                </a:solidFill>
                <a:latin typeface="Tahoma"/>
              </a:rPr>
              <a:t>М.А. Бестужев-Рюми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Каховский  Петр Григорьевич"/>
          <p:cNvPicPr/>
          <p:nvPr/>
        </p:nvPicPr>
        <p:blipFill>
          <a:blip r:embed="rId1"/>
          <a:stretch/>
        </p:blipFill>
        <p:spPr>
          <a:xfrm>
            <a:off x="900000" y="404640"/>
            <a:ext cx="2951280" cy="367200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3" name="Text Box 8"/>
          <p:cNvSpPr/>
          <p:nvPr/>
        </p:nvSpPr>
        <p:spPr>
          <a:xfrm>
            <a:off x="900000" y="43657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.Г.Каховск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9" descr="&lt;small&gt;Из собр. Пушкинского Дома.&lt;/small&gt;"/>
          <p:cNvPicPr/>
          <p:nvPr/>
        </p:nvPicPr>
        <p:blipFill>
          <a:blip r:embed="rId2"/>
          <a:stretch/>
        </p:blipFill>
        <p:spPr>
          <a:xfrm>
            <a:off x="5435640" y="1989000"/>
            <a:ext cx="2954160" cy="3816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sp>
        <p:nvSpPr>
          <p:cNvPr id="75" name="Text Box 10"/>
          <p:cNvSpPr/>
          <p:nvPr/>
        </p:nvSpPr>
        <p:spPr>
          <a:xfrm>
            <a:off x="5364000" y="5877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.И. Муравьев-Апо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0:05:55Z</dcterms:created>
  <dc:creator>Надежда</dc:creator>
  <dc:description/>
  <dc:language>en-US</dc:language>
  <cp:lastModifiedBy>Макаров</cp:lastModifiedBy>
  <dcterms:modified xsi:type="dcterms:W3CDTF">2012-11-06T04:59:34Z</dcterms:modified>
  <cp:revision>26</cp:revision>
  <dc:subject/>
  <dc:title>Восстание декабристов.  Декабристы на Кубани.</dc:title>
</cp:coreProperties>
</file>